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8F43-5C77-4099-87E6-945D49B3F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B44F-6E44-45F8-B6EF-E3143174A8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F90D-0C8E-4480-922A-9AC2065EFB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FDB5-823A-4AF1-B7E4-80D8D66B59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83F2-FA13-4DE6-8137-85DE78B513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704A-8591-4986-AA00-2DA0FC04DF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6D38-F159-4D12-A95E-F244A13F04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BD78-AA33-4EDB-8892-CC9D3F229D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06CE-FD3F-4CD6-9D4D-330F48B098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CAD0-2FD3-4B54-999A-389638392B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C6AA-08F6-4AC7-A24C-53FEDA72DE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CBED-CEDA-4320-B7AD-66E5C49DCE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92E9-3FE4-405F-814F-65F8820D67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46C5-9BB2-4DFA-A567-A26D67E7D6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AB2E-C3B9-4D44-AE7B-6F2CC415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A2EA-2AF9-45BB-AA40-85CBBB76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2A4E-5EBA-481B-9487-B8D92B77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0B95-AA0D-4824-9C73-59D6F7E9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8DEC-417C-4DAB-9D1E-7FF5E6F0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6A23-835D-48B4-A6C1-5B42F589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A586-F26D-40E3-95FD-C8C2B7E8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9401-A348-48B7-AFCF-8FFCCF57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4F3D-9E5D-4F63-AD88-41BFC5AA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F174-7B36-471D-B1CC-AAFA3885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C3FA-248B-475F-80FD-A616CCC7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230E-52D9-4D7A-AE47-A9C24AD5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20D3-17A7-4D35-A8A8-031D1C02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D029-B35A-4B05-A878-904A6868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5538-0B99-4E1D-A852-66FE84BA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A5AE-2BDE-4B5E-8215-478D9886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B3D6-FF91-4DD0-A2CF-71B817EF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CA2C-F32C-43CC-8E15-757EAC0D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6782-3E02-4E40-B8F7-648411EE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7E7E-974B-432F-B8C8-CB7209A2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6125-4064-4CB6-8303-6241F5E1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C964-810C-4550-8478-5C93D175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B638-18F7-404B-ADED-EFF5EBA8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4B96-057A-4721-A102-A345B904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A05E-1C7B-4E1D-A83B-339595D9A3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4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6208-6027-4A57-8EE6-1B1AED8F5A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hyperlink" Target="http://www.british.edu.uy/it_dept/itgs/graphics.jpg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Graphic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Graphics issu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nitor vs. Printer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age digitalisation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asy to replicate works of ar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asy the violation of intellectual property (OC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Computer Aided Design (CAD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is the use of computers to design produ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d mainly by engineers, designers and archit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an help to visualize the product b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an prevent design error, therefore preventing serious catastroph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an take very much less time to design a produ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an lower the costs as the designer can avoid buying experimental mater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CAD...some disadvantag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skilled designers can build design-poor products that may cause future accid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 may require lots of storage capa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design may turn too complex and have design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 is limited to the drawing skills of the CAD softw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Computer Aided Manufacture (CAM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M systems are sometimes integrated with a computer-aided design system (CAD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ery useful for circuit design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Pixe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hort for “Picture Elemen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 single dot on a monitor or printed documen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 smallest rectangular area of an image that can be manipulated on a monitor or printer, or stored in memory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pixel has a unique associated col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Pixel colours/shad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pixel shows only one colour at a given instant, but the possible colours may vary according to the number of bits we assign to each pix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 we assign a single bit (1 or 0) to a pixel we can give that pixel only two colo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 we assign two bits to a pixel we can give that pixel four colours (00,01,10,1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More colours / shad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85800" y="1066680"/>
          <a:ext cx="7772400" cy="50292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s per pix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different colou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s-MX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Pictures &amp; Forma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picture is a set of pixels of different colours placed in a particular patter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ictures must be saved to disks as a sequence of bits. There are several ways of translating a picture to a series of bits. This will give name to the format of the image fi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me of them highly compress the image (JPEG, GIF) occupying less space and some of them not so much (BMP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amples: JPEG, GIF, BMP, TIFF, WPG, PIC,PI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Another graphic format distin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aphic file formats can b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ixeled or Bitmapp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bject-oriented (or vector base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Object-Oriented vs. Bitmappe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9ce157"/>
                </a:solidFill>
                <a:uFillTx/>
                <a:latin typeface="Arial"/>
              </a:rPr>
              <a:t>Object orien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e stored as a series of lines or ve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ve smooth ed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enlarged without any loss of image qu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 very good for photographs or complex pictures (they occupy too mu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9ce157"/>
                </a:solidFill>
                <a:uFillTx/>
                <a:latin typeface="Arial"/>
              </a:rPr>
              <a:t>Bitmap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e stored as pixels at given coordin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ve sharp ed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not be enlarged without loss of image qu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tographs and complex images can perfectly be stored (and compressed to a reasonable ext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533520" y="649116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nother comparison chart can be found in </a:t>
            </a:r>
            <a:r>
              <a:rPr b="0" lang="es-MX" sz="1800" spc="-1" strike="noStrike" u="sng">
                <a:solidFill>
                  <a:srgbClr val="f98d43"/>
                </a:solidFill>
                <a:uFillTx/>
                <a:latin typeface="Times New Roman"/>
                <a:hlinkClick r:id="rId9"/>
              </a:rPr>
              <a:t>www.british.edu.uy/it_dept/itgs/graphics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Quality vs. Storage sp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Line 4"/>
          <p:cNvSpPr/>
          <p:nvPr/>
        </p:nvSpPr>
        <p:spPr>
          <a:xfrm flipV="1">
            <a:off x="2286000" y="1905120"/>
            <a:ext cx="0" cy="4114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1905120" y="5715000"/>
            <a:ext cx="525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 flipV="1">
            <a:off x="2743200" y="2666880"/>
            <a:ext cx="3505320" cy="243864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5698800" y="56800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torage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990360" y="19810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Drawing vs. Painting softwa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Drawing software manages obje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Painting software manages bitma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1T16:24:21Z</dcterms:created>
  <dc:creator>Maximo Gurmendez</dc:creator>
  <dc:description/>
  <dc:language>en-US</dc:language>
  <cp:lastModifiedBy>pienaark</cp:lastModifiedBy>
  <dcterms:modified xsi:type="dcterms:W3CDTF">2008-10-11T04:42:37Z</dcterms:modified>
  <cp:revision>10</cp:revision>
  <dc:subject/>
  <dc:title>Graphics</dc:title>
</cp:coreProperties>
</file>